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wmf" ContentType="image/x-wmf"/>
  <Override PartName="/ppt/media/image3.wmf" ContentType="image/x-wmf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912-B9FD-45DB-9B2B-6DF8F627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B0F-2ABD-4B4D-90DF-F2911C2A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B0C-BEC9-484B-BA61-3CAB4C85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E2E-588B-4B94-B0DD-0E086A0B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BD7-8608-4EC2-9B18-E61DC2D8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0B8-EF70-4480-8C56-C1C70E8D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0A20-7263-4662-AC2D-89A9BA8B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1699-98E9-4142-A5A1-6D9430FF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932-4B54-47CC-B1E0-4F9439EC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311-27A2-40DA-8F14-9E22074F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571-6CE4-4AFD-BFBF-4DA14DD3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C91-4C7A-44D5-8536-96F1D8C1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1498-33AB-4570-AC7E-F033A1FBA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iendsofblackwater.org/large_wall.jpg&amp;imgrefurl=http://www.friendsofblackwater.org/osprey_cam_blog/archives/2004/06/index.html&amp;h=768&amp;w=1024&amp;sz=188&amp;hl=en&amp;start=1&amp;tbnid=YItlN5aWyZVZvM:&amp;tbnh=113&amp;tbnw=150&amp;prev=/images%3Fq%3Dospreys%26svnum%3D10%26hl%3Den%26lr%3D%26ie%3DUTF-8%26sa%3D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radium.weblisher.no/institute/images/news/GreenFly.gif&amp;imgrefurl=http://radium.no/institute/index.php%3Fk%3Dinstitute%252FNews_articles%26aid%3D4358&amp;h=698&amp;w=943&amp;sz=302&amp;hl=en&amp;start=7&amp;tbnid=pVx4DdFwb3pgWM:&amp;tbnh=110&amp;tbnw=148&amp;prev=/images%3Fq%3Dgreenfly%26svnum%3D10%26hl%3Den%26lr%3D%26ie%3DUTF-8%26sa%3D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4" Type="http://schemas.openxmlformats.org/officeDocument/2006/relationships/image" Target="../media/image21.jpeg"/><Relationship Id="rId1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8" Type="http://schemas.openxmlformats.org/officeDocument/2006/relationships/image" Target="../media/image21.jpeg"/><Relationship Id="rId19" Type="http://schemas.openxmlformats.org/officeDocument/2006/relationships/image" Target="../media/image21.jpeg"/><Relationship Id="rId20" Type="http://schemas.openxmlformats.org/officeDocument/2006/relationships/image" Target="../media/image21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76720" y="228600"/>
            <a:ext cx="26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3880" y="198108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helps all living things to g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3505320"/>
            <a:ext cx="754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 energy comes originally from the su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90920" y="4648320"/>
            <a:ext cx="3886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bitat is th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rmal home of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ving thing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5053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66688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68040" y="2403360"/>
            <a:ext cx="9082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1371600"/>
            <a:ext cx="3733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800" y="2895480"/>
            <a:ext cx="895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733920" y="228600"/>
            <a:ext cx="2390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74320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295560" y="2479680"/>
            <a:ext cx="860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124080" y="1295280"/>
            <a:ext cx="31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-156240" y="2438280"/>
            <a:ext cx="936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00400" y="1066680"/>
            <a:ext cx="313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1292400" y="255600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6080" y="3317760"/>
            <a:ext cx="76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28080" y="46134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46880" y="5375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75080" y="61372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280" y="5375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7959800">
            <a:off x="4647600" y="4572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3780000">
            <a:off x="4588560" y="5622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8306600">
            <a:off x="1751760" y="56390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4369800">
            <a:off x="1464840" y="46314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5334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743200" y="1447920"/>
            <a:ext cx="313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044360" y="301320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767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19520" y="1295280"/>
            <a:ext cx="395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325440" y="2057400"/>
            <a:ext cx="88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360" y="2666880"/>
            <a:ext cx="6035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38280" y="12952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419720" y="2379600"/>
            <a:ext cx="3124080" cy="2776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65040" y="2057400"/>
            <a:ext cx="39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838080" y="3581280"/>
            <a:ext cx="2202120" cy="3048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020480" y="5299200"/>
            <a:ext cx="51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33720" y="1371600"/>
            <a:ext cx="4190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585720" y="240336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5410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2408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504000" y="2403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91360" y="293688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0" y="990720"/>
            <a:ext cx="4191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/>
          <p:nvPr/>
        </p:nvSpPr>
        <p:spPr>
          <a:xfrm>
            <a:off x="746280" y="2514600"/>
            <a:ext cx="79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6019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14600" y="1447920"/>
            <a:ext cx="4191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2362320"/>
            <a:ext cx="89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" y="331776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00400" y="30492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vironme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1620720" cy="1630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1814760" cy="1508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43400" y="243828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243828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2362320"/>
            <a:ext cx="6858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990720" y="4419720"/>
            <a:ext cx="1833480" cy="1896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352680" y="487692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943600" y="419112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38862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79840" y="3622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98560" y="632448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99240" y="171756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/>
          <p:nvPr/>
        </p:nvSpPr>
        <p:spPr>
          <a:xfrm>
            <a:off x="743040" y="2479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350532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00400" y="38088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438280" y="152388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507240" y="2556000"/>
            <a:ext cx="82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2767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195640" y="1557360"/>
            <a:ext cx="46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pulation chan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95480" y="25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258444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4724280"/>
            <a:ext cx="22939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060640"/>
            <a:ext cx="2879640" cy="2047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21000"/>
            <a:ext cx="21592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5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34936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56360" y="472428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472428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003640" y="393372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15636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9"/>
          <a:stretch/>
        </p:blipFill>
        <p:spPr>
          <a:xfrm>
            <a:off x="723600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0"/>
          <a:stretch/>
        </p:blipFill>
        <p:spPr>
          <a:xfrm>
            <a:off x="5003640" y="31417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1"/>
          <a:stretch/>
        </p:blipFill>
        <p:spPr>
          <a:xfrm>
            <a:off x="7236000" y="4724280"/>
            <a:ext cx="1152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057400" y="1295280"/>
            <a:ext cx="495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ducers and consum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90360" y="2327400"/>
            <a:ext cx="927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940360" y="2349360"/>
            <a:ext cx="24559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427640" y="2421000"/>
            <a:ext cx="4537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099040" y="1981080"/>
            <a:ext cx="331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43280" y="2852640"/>
            <a:ext cx="3721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2492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33720" y="1447920"/>
            <a:ext cx="497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chains and 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990720" y="47242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410080" y="4724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5760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2783400">
            <a:off x="3884760" y="41918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04280" y="52992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08240" y="5985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05720" y="3317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33720" y="2784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03280" y="3213000"/>
            <a:ext cx="216000" cy="23036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19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19280" y="5516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492360" y="3212640"/>
            <a:ext cx="28764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116000" y="285264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56000" y="2852640"/>
            <a:ext cx="143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321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3500280"/>
            <a:ext cx="230508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76360" y="4149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4292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47640" y="4437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47640" y="5157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564000" y="2276640"/>
            <a:ext cx="1512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276360" y="2852640"/>
            <a:ext cx="1726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564000" y="3789360"/>
            <a:ext cx="1295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492360" y="422100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203640" y="4724280"/>
            <a:ext cx="1512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19640" y="522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347640" y="5444640"/>
            <a:ext cx="13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7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2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7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2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740880" y="21747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9880" y="1523880"/>
            <a:ext cx="191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429000" y="228600"/>
            <a:ext cx="2752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38280" y="1295280"/>
            <a:ext cx="43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OD CHAINS AN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1306800" y="220968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320" y="2936880"/>
            <a:ext cx="887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5:05:33Z</dcterms:created>
  <dc:creator>Physics Department</dc:creator>
  <dc:description>environments food living things energy</dc:description>
  <cp:keywords>environments food living things energy</cp:keywords>
  <dc:language>en-US</dc:language>
  <cp:lastModifiedBy>gg</cp:lastModifiedBy>
  <dcterms:modified xsi:type="dcterms:W3CDTF">2007-03-17T15:42:33Z</dcterms:modified>
  <cp:revision>44</cp:revision>
  <dc:subject>environments food living things energy</dc:subject>
  <dc:title>environments food living things energy</dc:title>
</cp:coreProperties>
</file>